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AE7-F64C-4FF6-AA52-3B32640F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FA5-E7AB-45FC-A1FC-5DE17796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554-4E72-4799-B84A-D00CAAE9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991-F182-4851-A6E1-22803B8E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24F-08AD-4648-9A1C-9D87F76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8BA-D3B7-4363-96B4-3E59401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C47-B293-4143-9D9A-3FC05A1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E9A-E69F-482D-AA1A-67557511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160-C69A-4F10-AFF3-8A0C3CCE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13B-A122-41AA-ABFD-7B15820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494-2FFC-43BB-B96E-E0280256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0B0-3CEA-4D47-BA1C-137475E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2A6E-9B19-45D2-8299-C00B19DAB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57088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для презент. тонкий лед\02.jpg"/>
          <p:cNvPicPr/>
          <p:nvPr/>
        </p:nvPicPr>
        <p:blipFill>
          <a:blip r:embed="rId2"/>
          <a:stretch/>
        </p:blipFill>
        <p:spPr>
          <a:xfrm>
            <a:off x="142920" y="0"/>
            <a:ext cx="207180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017720" y="817560"/>
            <a:ext cx="763272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давайтесь панике! Берегите сил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 Делайте попытки ещё и ещё, если не получило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828036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а оказания помощи человеку, провалившемуся под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857240" y="3500280"/>
            <a:ext cx="5143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вытащите пострадавшего на лед, и вместе ползком выбирайтесь из опасной зо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ьте пострадавшего в теплое место. Окажите ему помощь: снимите с него мокрую одежду, энергично разотрите тело (до покраснения кожи) смоченной в спирте или водке суконкой или руками, напоите пострадавшего горячим ча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CHS-3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-4735" b="0"/>
          <a:stretch/>
        </p:blipFill>
        <p:spPr>
          <a:xfrm>
            <a:off x="6300720" y="50133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внимательны и осторожны на льду водоёмов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беде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лед можно только в крайнем случае и с максимальной осторож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ИМНИЕ ЗАБ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MCHS-1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C:\Documents and Settings\Admin\Рабочий стол\для презент. тонкий лед\22532.jpg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369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428760"/>
            <a:ext cx="822960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ед на водоемах рыхлый и непрочный. В это время выходить на его поверхность крайне опасно. Однако  многие люди пренебрегают мерами предосторожности и выходят на тонкий лед, тем самым, подвергая свою жизнь смертельной опас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859280" y="422100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8548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одного человека считается лед толщиною не менее 10 сантиметров, для группы – не менее- 15 сантимет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для презент. тонкий лед\Копия 1287453_400_300_source.jpg"/>
          <p:cNvPicPr/>
          <p:nvPr/>
        </p:nvPicPr>
        <p:blipFill>
          <a:blip r:embed="rId2"/>
          <a:stretch/>
        </p:blipFill>
        <p:spPr>
          <a:xfrm>
            <a:off x="2666880" y="3060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луб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а – прочный, белый или желтоватый-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 ненадежен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1"/>
          <a:stretch/>
        </p:blipFill>
        <p:spPr>
          <a:xfrm>
            <a:off x="684360" y="2635200"/>
            <a:ext cx="76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ПАСНЫЕ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755640" y="1197000"/>
            <a:ext cx="745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857240" y="428760"/>
            <a:ext cx="49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692360" y="2205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местах на водоёмах  лёд бывает не про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Dell</cp:lastModifiedBy>
  <dcterms:modified xsi:type="dcterms:W3CDTF">2020-11-03T08:14:34Z</dcterms:modified>
  <cp:revision>87</cp:revision>
  <dc:subject/>
  <dc:title>ГИДРОДИНАМИЧЕСКИЕ АВАРИИ</dc:title>
</cp:coreProperties>
</file>