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.jpeg" ContentType="image/jpeg"/>
  <Override PartName="/ppt/media/image10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F70B-15B2-4892-BF78-550D52629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CD21-2E64-49B1-877B-0F80543B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F57F-2489-4DDE-AD9E-753C635E6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F988-9C2E-468B-B8DE-947655330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13F0-481F-46E6-B2B3-72A4926A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900B-E6E7-422E-8EA5-6A1F5066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7064-AA06-4820-9560-F62138BE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2555-580D-479A-A7C4-7EE3F9D2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7EDD-3799-4FA1-968E-A4C42375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1E7D-7875-4F75-909A-6E032805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E450-798D-4ECF-A481-29941510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808C-7E78-448D-A2DB-0DDD9C51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2409-58E4-4A46-A158-093DCBB3C8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324000" y="1920960"/>
            <a:ext cx="8570880" cy="308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Documents and Settings\Admin\Рабочий стол\для презент. тонкий лед\02.jpg"/>
          <p:cNvPicPr/>
          <p:nvPr/>
        </p:nvPicPr>
        <p:blipFill>
          <a:blip r:embed="rId2"/>
          <a:stretch/>
        </p:blipFill>
        <p:spPr>
          <a:xfrm>
            <a:off x="142920" y="0"/>
            <a:ext cx="2071800" cy="1654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1"/>
          <a:stretch/>
        </p:blipFill>
        <p:spPr>
          <a:xfrm>
            <a:off x="1017720" y="817560"/>
            <a:ext cx="7632720" cy="4626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28760" y="260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ддавайтесь панике! Берегите силы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иньте руки в стороны и постарайтесь зацепиться за кромку льда, придав телу горизонтальное положение по направлению те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ытайтесь осторожно налечь грудью на край льда и забросить одну, а потом и другую ноги на лед. Делайте попытки ещё и ещё, если не получилос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Documents and Settings\Admin\Рабочий стол\для презент. тонкий лед\1111111111111111.jpg"/>
          <p:cNvPicPr/>
          <p:nvPr/>
        </p:nvPicPr>
        <p:blipFill>
          <a:blip r:embed="rId1"/>
          <a:stretch/>
        </p:blipFill>
        <p:spPr>
          <a:xfrm>
            <a:off x="2357280" y="3571920"/>
            <a:ext cx="4286520" cy="3048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500040" y="35712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лед выдержал, перекатываясь, медленно ползите к берег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зите в ту сторону – откуда пришли, ведь лед здесь уже проверен на прочно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3" descr=""/>
          <p:cNvPicPr/>
          <p:nvPr/>
        </p:nvPicPr>
        <p:blipFill>
          <a:blip r:embed="rId1"/>
          <a:stretch/>
        </p:blipFill>
        <p:spPr>
          <a:xfrm>
            <a:off x="571680" y="3029040"/>
            <a:ext cx="8072280" cy="2685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280" y="1988640"/>
            <a:ext cx="8280360" cy="23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Правила оказания помощи человеку, провалившемуся под лё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Заголовок 3" descr=""/>
          <p:cNvPicPr/>
          <p:nvPr/>
        </p:nvPicPr>
        <p:blipFill>
          <a:blip r:embed="rId1"/>
          <a:stretch/>
        </p:blipFill>
        <p:spPr>
          <a:xfrm>
            <a:off x="609480" y="60480"/>
            <a:ext cx="7998120" cy="34146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" descr=""/>
          <p:cNvPicPr/>
          <p:nvPr/>
        </p:nvPicPr>
        <p:blipFill>
          <a:blip r:embed="rId2"/>
          <a:stretch/>
        </p:blipFill>
        <p:spPr>
          <a:xfrm>
            <a:off x="1857240" y="3500280"/>
            <a:ext cx="5143680" cy="3357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28760" y="285840"/>
            <a:ext cx="82152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орожно вытащите пострадавшего на лед, и вместе ползком выбирайтесь из опасной зон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зите в ту сторону – откуда пришл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авьте пострадавшего в теплое место. Окажите ему помощь: снимите с него мокрую одежду, энергично разотрите тело (до покраснения кожи) смоченной в спирте или водке суконкой или руками, напоите пострадавшего горячим чаем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MCHS-3"/>
          <p:cNvPicPr/>
          <p:nvPr/>
        </p:nvPicPr>
        <p:blipFill>
          <a:blip r:embed="rId1"/>
          <a:stretch/>
        </p:blipFill>
        <p:spPr>
          <a:xfrm>
            <a:off x="1042920" y="476280"/>
            <a:ext cx="7058160" cy="4681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2"/>
          <a:srcRect l="0" t="0" r="-4735" b="0"/>
          <a:stretch/>
        </p:blipFill>
        <p:spPr>
          <a:xfrm>
            <a:off x="6300720" y="5013360"/>
            <a:ext cx="2600280" cy="1700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68360" y="112500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Будьте внимательны и осторожны на льду водоёмов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блюдение этого совета может привести к беде. К сожалению, помощь попавшим в беду на воде приходит иногда слишком поздно, и происшествие заканчивается трагически. Чтобы этого не случилось, необходимо помнить, что выходить на лед можно только в крайнем случае и с максимальной осторожность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500040" y="49968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ащиеся и взрослые, соблюдайте правила поведения на водных объектах, выполнение элементарных мер осторожности - залог вашей безопасности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95280" y="33300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ЗИМНИЕ ЗАБАВ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MCHS-1"/>
          <p:cNvPicPr/>
          <p:nvPr/>
        </p:nvPicPr>
        <p:blipFill>
          <a:blip r:embed="rId1"/>
          <a:stretch/>
        </p:blipFill>
        <p:spPr>
          <a:xfrm>
            <a:off x="395280" y="1484280"/>
            <a:ext cx="3960720" cy="3672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5" name="Picture 2" descr="C:\Documents and Settings\Admin\Рабочий стол\для презент. тонкий лед\22532.jpg"/>
          <p:cNvPicPr/>
          <p:nvPr/>
        </p:nvPicPr>
        <p:blipFill>
          <a:blip r:embed="rId2"/>
          <a:stretch/>
        </p:blipFill>
        <p:spPr>
          <a:xfrm>
            <a:off x="4716360" y="1484280"/>
            <a:ext cx="3888000" cy="3691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500040" y="428760"/>
            <a:ext cx="8229600" cy="32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ной лед на водоемах рыхлый и непрочный. В это время выходить на его поверхность крайне опасно. Однако  многие люди пренебрегают мерами предосторожности и выходят на тонкий лед, тем самым, подвергая свою жизнь смертельной опас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C:\Documents and Settings\Admin\Рабочий стол\для презент. тонкий лед\i_032.png"/>
          <p:cNvPicPr/>
          <p:nvPr/>
        </p:nvPicPr>
        <p:blipFill>
          <a:blip r:embed="rId1"/>
          <a:stretch/>
        </p:blipFill>
        <p:spPr>
          <a:xfrm>
            <a:off x="714240" y="4429080"/>
            <a:ext cx="2954520" cy="2000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Documents and Settings\Admin\Рабочий стол\для презент. тонкий лед\ice.jpg"/>
          <p:cNvPicPr/>
          <p:nvPr/>
        </p:nvPicPr>
        <p:blipFill>
          <a:blip r:embed="rId2"/>
          <a:stretch/>
        </p:blipFill>
        <p:spPr>
          <a:xfrm>
            <a:off x="4859280" y="4221000"/>
            <a:ext cx="3247920" cy="2243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5840" y="285480"/>
            <a:ext cx="8229600" cy="34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о нужно знать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ым для одного человека считается лед толщиною не менее 10 сантиметров, для группы – не менее- 15 сантиметро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Admin\Рабочий стол\i_033.png"/>
          <p:cNvPicPr/>
          <p:nvPr/>
        </p:nvPicPr>
        <p:blipFill>
          <a:blip r:embed="rId1"/>
          <a:stretch/>
        </p:blipFill>
        <p:spPr>
          <a:xfrm>
            <a:off x="1357200" y="3714840"/>
            <a:ext cx="3000600" cy="2589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Documents and Settings\Admin\Рабочий стол\для презент. тонкий лед\416815_DETAIL.jpg"/>
          <p:cNvPicPr/>
          <p:nvPr/>
        </p:nvPicPr>
        <p:blipFill>
          <a:blip r:embed="rId2"/>
          <a:stretch/>
        </p:blipFill>
        <p:spPr>
          <a:xfrm>
            <a:off x="4572000" y="4000680"/>
            <a:ext cx="3238560" cy="2571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3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353440" cy="2376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Documents and Settings\Admin\Рабочий стол\для презент. тонкий лед\Копия 1287453_400_300_source.jpg"/>
          <p:cNvPicPr/>
          <p:nvPr/>
        </p:nvPicPr>
        <p:blipFill>
          <a:blip r:embed="rId2"/>
          <a:stretch/>
        </p:blipFill>
        <p:spPr>
          <a:xfrm>
            <a:off x="2666880" y="306072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ность льда можно определить визуально: лед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олубог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вета – прочный, белый или желтоватый-</a:t>
            </a:r>
            <a:r>
              <a:rPr b="1" i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лед ненадежен</a:t>
            </a:r>
            <a:r>
              <a:rPr b="0" i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C:\Documents and Settings\Администратор\Рабочий стол\Копия 800xp1090843-1.jpg"/>
          <p:cNvPicPr/>
          <p:nvPr/>
        </p:nvPicPr>
        <p:blipFill>
          <a:blip r:embed="rId1"/>
          <a:stretch/>
        </p:blipFill>
        <p:spPr>
          <a:xfrm>
            <a:off x="684360" y="2635200"/>
            <a:ext cx="7632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28760" y="428760"/>
            <a:ext cx="8229600" cy="83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ПАСНЫЕ МЕ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http://whiteschool.narod.ru/zdorov_bez/led_1.jpg"/>
          <p:cNvPicPr/>
          <p:nvPr/>
        </p:nvPicPr>
        <p:blipFill>
          <a:blip r:embed="rId1"/>
          <a:stretch/>
        </p:blipFill>
        <p:spPr>
          <a:xfrm>
            <a:off x="755640" y="1197000"/>
            <a:ext cx="7450200" cy="5184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3"/>
          <p:cNvSpPr/>
          <p:nvPr/>
        </p:nvSpPr>
        <p:spPr>
          <a:xfrm>
            <a:off x="1857240" y="428760"/>
            <a:ext cx="492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1692360" y="2205000"/>
            <a:ext cx="611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 каких местах на водоёмах  лёд бывает не прочн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Documents and Settings\Admin\Рабочий стол\для презент. тонкий лед\Копия (2) pravilaperexodapol-duvodoemov.jpg"/>
          <p:cNvPicPr/>
          <p:nvPr/>
        </p:nvPicPr>
        <p:blipFill>
          <a:blip r:embed="rId1"/>
          <a:stretch/>
        </p:blipFill>
        <p:spPr>
          <a:xfrm>
            <a:off x="0" y="0"/>
            <a:ext cx="9151920" cy="6748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08:54:10Z</dcterms:created>
  <dc:creator>Вурдалак</dc:creator>
  <dc:description/>
  <dc:language>en-US</dc:language>
  <cp:lastModifiedBy>Dell</cp:lastModifiedBy>
  <dcterms:modified xsi:type="dcterms:W3CDTF">2020-11-03T08:14:34Z</dcterms:modified>
  <cp:revision>87</cp:revision>
  <dc:subject/>
  <dc:title>ГИДРОДИНАМИЧЕСКИЕ АВАРИИ</dc:title>
</cp:coreProperties>
</file>